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6FE-CFE4-44D6-8660-011BDA5F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0DD-213A-453F-96C2-88A2E5FC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DE5-3FC0-4D37-9D3C-98C71084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DF0-66B5-4A01-9831-89A4D8CA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6EF-0FB4-43B7-81ED-59B1E84A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58F-2A94-4307-AC1F-3B490B48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E55-3446-42CD-874A-1E422D96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71E-7C45-4DB8-9D0D-46629FFE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75F-066C-4D05-AA37-5A7DC7FC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D4B-9D66-42C0-929B-1C5ACA6E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540-00BE-4249-9A60-690EA35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334-7081-4361-9551-6CEBC9A4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696D-F4D8-4834-A071-9AA37028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990720"/>
            <a:ext cx="511344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рекланям се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ред Теб !!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228600"/>
            <a:ext cx="6629400" cy="740556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dddddd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Когато скръб нападне  не зн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Святия Ти Дух                           ще ме закрил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Знам, че милостта Ти е до кр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/ Нежно, бащински                              ще ме помилва. /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1981080"/>
            <a:ext cx="8305920" cy="44809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dddddd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Прекланям се пред Тебе аз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и моля Те във този ча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Вземи ме пак в ръката 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Води ме Ти, води.</a:t>
            </a:r>
            <a:r>
              <a:rPr b="0" lang="bg-BG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32480" y="3079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0"/>
            <a:ext cx="8686800" cy="374976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dddddd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Прекланям се пред Тебе аз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и моля Те във този ча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Вземи ме пак в ръката 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Води ме Ти, завинаги, помогни ми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19320" y="76320"/>
            <a:ext cx="6553080" cy="88678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Когато скръб нападне                не зн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Святия Ти Дух                               ще ме закрил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Знам, че милостта Ти                    е до кр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/ Нежно, бащински                                  ще ме помилва. /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1447920"/>
            <a:ext cx="8381880" cy="301860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/ Живях далеч от Тебе аз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Не осъзнавах своя гря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Но Ти простря ръката С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0000"/>
                </a:solidFill>
                <a:latin typeface="Monotype Corsiva"/>
              </a:rPr>
              <a:t>извади ме от пепелта . 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6:25:43Z</dcterms:created>
  <dc:creator>TrifonTrifonow</dc:creator>
  <dc:description/>
  <dc:language>en-US</dc:language>
  <cp:lastModifiedBy>TrifonTrifonow</cp:lastModifiedBy>
  <dcterms:modified xsi:type="dcterms:W3CDTF">2005-12-28T06:29:54Z</dcterms:modified>
  <cp:revision>2</cp:revision>
  <dc:subject/>
  <dc:title>Slide 1</dc:title>
</cp:coreProperties>
</file>